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28E4F-3231-489D-8493-D9D6A59C8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CE993-9D52-4F9B-A074-D5DD8F373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4E016-CB2C-4E0C-A9E1-93FEE849C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60863-BADD-4136-8A57-E3651480B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633DD-EDB5-4E06-954B-3573D270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3B57-E430-42DF-9E69-82B59F424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891C-B320-47E0-98AD-878023AD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36D7-EE6B-4B39-889B-3A0760195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80DE-BFB5-4043-AA81-BD80CA32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8449-A0B1-4884-B16C-50723CA2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020D-23D2-40F1-A648-19FAF569F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BC264-27FE-489C-8409-FB575A2D0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51C0-146D-4265-8D29-91A38E192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Classes</a:t>
            </a:r>
            <a:br>
              <a:rPr sz="4400"/>
            </a:br>
            <a:r>
              <a:rPr b="0" lang="en-US" sz="4400" spc="-1" strike="noStrike">
                <a:solidFill>
                  <a:srgbClr val="000000"/>
                </a:solidFill>
                <a:latin typeface="Arial"/>
              </a:rPr>
              <a:t>Chapter 9</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class describes any number of similar object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data that may be called by the user, private methods used within the object – not accessible outside the o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nstructo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 may have no, one or many constructor methods but if they exist they must each have unique para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74320"/>
            <a:ext cx="830592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lass Ball</a:t>
            </a:r>
            <a:br>
              <a:rPr sz="4000"/>
            </a:br>
            <a:r>
              <a:rPr b="0" lang="en-US" sz="4000" spc="-1" strike="noStrike">
                <a:solidFill>
                  <a:srgbClr val="000000"/>
                </a:solidFill>
                <a:latin typeface="Arial"/>
              </a:rPr>
              <a:t>page 181</a:t>
            </a:r>
            <a:br>
              <a:rPr sz="4000"/>
            </a:br>
            <a:r>
              <a:rPr b="0" lang="en-US" sz="4000" spc="-1" strike="noStrike">
                <a:solidFill>
                  <a:srgbClr val="000000"/>
                </a:solidFill>
                <a:latin typeface="Arial"/>
              </a:rPr>
              <a:t>A ball bounces around a panel</a:t>
            </a:r>
            <a:endParaRPr b="0" lang="en-US" sz="4000" spc="-1" strike="noStrike">
              <a:solidFill>
                <a:srgbClr val="000000"/>
              </a:solidFill>
              <a:latin typeface="Arial"/>
            </a:endParaRPr>
          </a:p>
        </p:txBody>
      </p:sp>
      <p:sp>
        <p:nvSpPr>
          <p:cNvPr id="62"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rules: where something is accessible (has scope, or is visible, may be u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blic - accessible from anywh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 accessible only from within the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ons on Objec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may be primitive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olean, int, double for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bjects must be declared as instances/ob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number; // number usable immediat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on balloon = new Balloon ( 10, 20, 50);</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s new to create the object ball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of primitive typ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float, double …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ready made with a collection of things that may be done with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thmet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s parame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oon exampl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t as a parmeter and as a return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it to a variable of the same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ethod provided as part of it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destruc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create it and initialize ballo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lloon = new Balloon ( 20, 100, 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stroy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lloon = null (sets it to a reserved value  in Java, balloon no longer may be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c method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quare root”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th.sqrt is an example of a method that is part of the Math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ta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Math must precede .sq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c variabl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known as class variables but not the same as class – level vari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am Use Balloon pages 170-171</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ons clicked to “move” or “grow” a “ballo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move button clicked balloon moves right 20 pix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grow is clicked diameter of balloon increases by 20 pix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de of UseBallo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moveRight (int  xStep)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 xSte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changeSize( int chang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ameter = diameter + ch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 two methods called to alter “ballo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which is really just an 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s and fil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now in text Java programs included one class – they may hold many classes all re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all classes in one file. Declare “public” the class which holds main (only one class in a file may be “publ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classes not public. Make the file nale same as the public cla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required import statements at the start of the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eparate f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each class in a file by it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e the class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file the same as the class it cont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ort all the needed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all the files in the same fol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rivate variabl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and y are used in the UseBalloon program they are declared at the top of the class, “class level” also known as instance variables. They may be accessed by any method within the class, not by any methods outside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ublic metho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to other pieces of the program – may be accessed within and without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uctor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methods used in initalization of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with the same name as the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turn value (not even vo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ublic Balloon ( int initalX, int initalY, int initialDiameter)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x = initalX; y = initalY; diameter = initalDiame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ext the constru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on balloon = new Balloon (10,10,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reate a new object/instance of class Balloon called balloon (lower case variable name different in Java – case sensi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6:39:09Z</dcterms:created>
  <dc:creator>ITS</dc:creator>
  <dc:description/>
  <dc:language>en-US</dc:language>
  <cp:lastModifiedBy> </cp:lastModifiedBy>
  <dcterms:modified xsi:type="dcterms:W3CDTF">2005-05-02T22:43:37Z</dcterms:modified>
  <cp:revision>4</cp:revision>
  <dc:subject/>
  <dc:title>Writing Classes Chapter 9</dc:title>
</cp:coreProperties>
</file>